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type.wav" ContentType="audio/x-wav"/>
  <Override PartName="/ppt/media/image8.jpeg" ContentType="image/jpeg"/>
  <Override PartName="/ppt/media/image10.jpeg" ContentType="image/jpeg"/>
  <Override PartName="/ppt/media/whoosh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camera.wav" ContentType="audio/x-wav"/>
  <Override PartName="/ppt/media/image1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88E-1511-401D-9F51-21712465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C3E-E2D7-4FD1-A42B-CE115BE2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6BE69-F5F5-43D8-B8C0-7E2B2369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5535F-12A8-4A99-BDB7-4DF2CCF9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B75E5-03DD-4A72-B2F8-B5F538B1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468F6-79B0-4011-8599-66A0457A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292EB-AB34-45B8-A2A7-20A0C5F0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0447D-40A2-49E2-B7E0-28A44210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F3A6E-F5A2-4688-A360-4848A325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9AB7C-0A82-4DB7-9BFF-CA0D4818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2052D-B35C-4782-A867-8E7C821F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2415D0-D828-45D6-9E59-27F9812F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BF1-155D-4891-901A-D5C31AB7F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E74BB-C9E4-4A25-86C5-AE70EEDE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019B9-D454-4C29-9484-9B6F160A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041E9-7B5D-4B35-A396-1A464B47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87EE8-6C77-4718-A488-FFACFBD9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7E66F-EA25-4131-91D6-212B75D7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EFBC8-003A-48E4-80A9-86FE0FD9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9410E-900F-4333-864E-2FE8016E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3151D-DE06-44B5-A1E0-832EA7A0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F4AC7-5AD3-4AF1-9B9D-0E478B94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A5ADD-8076-4DBD-8D44-D84824077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C0A-C595-4035-859D-558927A9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E6AFF-02A0-4A52-9334-B35FF7DB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8A427-9CF1-4626-A8D7-CC37A2B4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4BAEA-3978-4276-BBD6-A9ED6494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81378-0861-495E-84A5-44DB2A64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700E0-BB3D-4A28-8093-5493E555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0BA80-1875-4D14-A7FD-874F28E1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C0B68-9039-4BAD-9B3A-1F379236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9E861-453C-45AD-B20B-5BD50E3D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3D1E3-A4A7-4F04-AB6D-F491012E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44EDC-79E0-4278-8048-0AB8C4C8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7F76-4B8F-474C-AECB-F3CC1319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79EED-D8A0-40DA-9B15-C44AA1C4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065A4A-69D8-4C2D-8B9F-FA86C855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69DEE-1FBD-48FC-BA66-FDC291FE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7ADDE-6033-422E-BC60-EC90B39E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791D1-B7F7-4ED9-91DE-AA8B8272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27D16-7045-4961-B291-A3303849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448D9-0754-4A6C-ACAE-9E6B83B5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5FCBF-4F82-4144-8B5A-36A93FAF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E8BC7-A5D8-4A4A-9D51-2A196C4E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E9CBE-F3D5-4A69-967A-5192FAC8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8F80-E90E-41C4-AAF4-E0089F3F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46683-566D-40FC-8CC1-A82D71AA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B9CF96-B005-47E5-8911-3F88DDD1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A5183-6E8C-44DE-BC36-9A37FF31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A3355-649D-485E-A184-98F6F43F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40BB98-370F-4E8C-B685-BCA38E7D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E5A040-72D1-4292-A092-880771CF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92C923-18B2-41DA-96E5-853F0CC7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0E35B-9AB9-4A7E-AB6F-5597BF13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D7BAE-EA84-44DA-BF73-A79F7BB8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F820D-2320-49CA-AA71-965C0790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4448-F2E6-4F21-8AE2-92CA4D08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41265-92C0-4748-968D-BFF6878A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496D9-E72E-402C-A3FB-F8A34882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0C024-2346-45C2-8A93-A65BAB69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9A414-4802-4CC5-ABB2-7272565C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52E3C-79FD-44D0-9515-B8756D21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2B3E2C-F399-43CC-A18B-889690F3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3D5230-4708-4AC5-99DB-560CF07B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D6D2-5966-46DA-A059-F358A2A0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5418-1472-4170-B70B-E4795E0E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EA58-2574-4381-9E08-F3996E2A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C8BD-BE3A-4176-A213-F7D94552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36A7-1D33-4CBE-8933-A44760D3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0CB5-1992-45B8-B15C-E37A5A3E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7F45-E0A4-42F3-86AB-0DB4951F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36020-4FA1-4744-8BCD-67BB7696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4A71-880E-4496-B166-0944C950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7775-0205-48F5-9AFB-AE477AEA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CF8FC-7900-4F8E-9CDF-24A49694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1D3A4-2C1B-4CBC-BC3F-ACC2B5B5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F327A-3327-421B-BCB4-6C7C1812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23FC9-8E23-41AB-826E-547C069A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ECFFF-184A-4131-9A5F-A365CE64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3B4-BFDB-461A-B992-63761C4C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4799-A869-4229-A0AA-CA4533AF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86D40-F1A8-4473-A722-9E8BBE95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7D8A8-A032-4346-A07F-40C9887E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9BC31-6C5C-4862-BE21-A95110FB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DAB35-B6FB-4B28-B428-F0962A7E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D7800-4611-401B-9B7B-B94686C4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876A4-4306-4E24-9A31-BF5163C1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7C883-6CAF-4220-A81C-A72D9955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79CFC-0BEF-4165-8C02-AF4F191E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FF6D-C574-4FC7-8D6F-128A3C1A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91EC-346B-4FA4-B562-E132F435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4ADE2-FBC6-4085-9B55-8EEC9565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1CAAC-AFA7-43E1-ACE2-8C51E76B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3AF94-F499-4382-8EEA-EFB0604A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4D19E-A43A-4ACE-8D06-E2481645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5EC59-EC16-4E7D-9AB9-A2FD7823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064D-8A75-4673-83B6-B61B2477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0EA72-7804-4375-817D-CAA01A4F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D7E03-FC90-4F2E-A848-93E99059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9697E-53F9-4016-A8D9-D8EBB6C0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6EFB2-A4E8-4C19-B6EC-0B71C609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2F4-B76D-46B9-9A0E-8C0EE76E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22D9F-2296-47C6-A9E6-7E7D7289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9699B-A2B1-4EE3-93C1-65B12E78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D569D-F7F2-4EDF-90A7-EFD06357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BA2FF-059E-46B4-87F6-DDF518FA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FFA62-01D9-4776-95F9-DE5E87FD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805C3-6A98-428C-980D-79A85B02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011D1-4D02-42B9-AB18-127FE57A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D7065-DD77-438C-9B85-FEA4B837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A07B8-6E52-4DB9-9812-45D2CC15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CFC61-6487-4551-A8DD-E46095A4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9D0F-637D-4591-A923-C4B23CCA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9F775-1635-49A7-92C8-42C1AD52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00F8E-AA52-4D69-85D4-34E66EE8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C61C9-63A1-469D-A587-EC3E9556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E22CB-1924-4A76-806E-264583FD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98EA1-EA13-4A2C-8D60-596598AF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29F4B-9E23-45C4-85A8-3E1F4893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CC9C6-91D1-482D-A294-4D73D900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E3F2F-4E39-4866-8678-90F45CD1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D8848-82E5-4561-BB9F-8CE8888F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B80DA-0408-4CAD-ADC9-C1DE8074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5DCD-E326-41DE-87DC-B4750C5A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AAAB9-2FE1-419B-A5AD-60DF11847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12960-6906-4120-98DA-76EC8AB5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69CB3-2C5C-45F1-8442-297EF299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C9E08-1A5B-49BB-B301-6FD87930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377ED-AB6E-43F7-9CF3-CC6E9B3F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B987D-40B6-4809-A8E4-843DDD5F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E07B0-A7B4-46A5-A34A-BFC6DD77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9C603-D6BD-4984-BC64-A94DFDE4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3E27E-A268-4C03-AF17-37D31AEA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FCADE-43F5-4705-8542-18A3CB43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0E2-143F-48E8-B3F8-9577C046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22319-3F07-4DC7-B2F1-F8C5460E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239EA-F9D5-4FEB-A6F4-14EBFAF4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0EBE3-40AE-49D4-89D1-9B71641C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F10A4-5EC6-4F9F-884F-0E7F6D0A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D4F5E-929D-4DE5-949F-38B343C3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5AD0E-B6DA-488C-837B-4095DDB2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A4941-1127-49C8-BB48-D8E623E9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1E39B-B767-45ED-8586-D714564C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0675E-8611-4430-93EF-1FB1B1A6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307CF-BFD6-4DE8-9A24-655DC06C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2F7-2ED5-4B0D-B1C9-F68ED7EA4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463EF-9E22-4B62-BF2E-92BB54DF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2A5E4-ECCD-4C55-B60E-23495D68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3CE0B-EEA5-4E8A-A54E-F34B41A2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18334-3CC7-4A2F-8A68-AD06C401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6D1BA-D8AF-4F91-8F52-00366F13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CA0FE-D718-47F7-93F3-D7380F28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92320-8261-433F-B64F-CE362213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BA0D8-98A2-4A82-B6D5-63EA8EC2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7F52F-87D6-41ED-AE07-6AD017451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00A32-C746-440B-9E66-DCDB3B31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488A-3182-4A17-8F90-96C874CAD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6C42-B2AC-439B-8B1E-DE01238DF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70EC-29E4-4D73-8D2C-2D2CAF986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A1C9-519B-4CD9-BD69-CB45D1514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4737-533E-4BF0-B7FE-59B5295A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9D93-7C4F-4D80-9692-964DF950B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FC24-C3B4-45F1-BCAD-20B2D456F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541D-D90F-4353-BEBE-747A307C7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8CCE-9978-4CE2-8C80-B5F5C4407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07F9-0991-4D0E-BC3F-F79F55D2B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48CC-CEB8-4699-AA96-104A4BBBB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D9FD-2438-4B1E-95C6-47155C8E9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A851-FFF5-439C-A813-2C7098C28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.jike.com/detail?did=-5265682460538115300&amp;pos=177&amp;num=36&amp;q=&#36807;&#21435;&#24310;&#23433;&#22270;&#29255;&amp;fm=QH360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29.photo.store.qq.com/http_imgload.cgi?/rurl4_b=f52733238bc189dd92eac1a168c98ddf48e61b03778a9543c05953bed78d37799f013b0cf49d6b73e805fac7e696ff7e63d04222d4ff987568dbd768a565a94eb7b8cbd4eaf6f89be8ec827e5c08f80993261d77&amp;a=29&amp;b=29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b29.photo.store.qq.com/http_imgload.cgi?/rurl4_b=f52733238bc189dd92eac1a168c98ddf48e61b03778a9543c05953bed78d37799f013b0cf49d6b73e805fac7e696ff7e63d04222d4ff987568dbd768a565a94eb7b8cbd4eaf6f89be8ec827e5c08f80993261d77&amp;a=29&amp;b=29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b12.photo.store.qq.com/http_imgload.cgi?/rurl4_b=f52733238bc189dd92eac1a168c98ddfdd257e0c212d5b52acb7c6190b53ce40946b85c4853ca57faab0537800226bf7f6d40d8228070a685925234c2f3d347d562355a0d5c31d3b47fa862a0ab86e310bc08953&amp;a=29&amp;b=1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jike.com/detail?did=-684211577223914562&amp;pos=78&amp;num=36&amp;q=&#24310;&#23433;&#31377;&#27934;&#22270;&#29255;&amp;fm=QH360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jike.com/detail?did=-2892719140794876867&amp;pos=39&amp;num=36&amp;q=&#24310;&#23433;&#23453;&#22612;&#23665;&amp;fm=sesop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get?name=T178_sBsVj1RCvBVd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5940360" y="-747720"/>
            <a:ext cx="17281440" cy="8037360"/>
          </a:xfrm>
          <a:prstGeom prst="rect">
            <a:avLst/>
          </a:prstGeom>
          <a:ln w="0">
            <a:noFill/>
          </a:ln>
        </p:spPr>
      </p:pic>
      <p:sp>
        <p:nvSpPr>
          <p:cNvPr id="536" name="WordArt 14"/>
          <p:cNvSpPr txBox="1"/>
          <p:nvPr/>
        </p:nvSpPr>
        <p:spPr>
          <a:xfrm>
            <a:off x="2195640" y="1413000"/>
            <a:ext cx="626400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延安，我把你追寻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7" name="Text Box 15"/>
          <p:cNvSpPr/>
          <p:nvPr/>
        </p:nvSpPr>
        <p:spPr>
          <a:xfrm>
            <a:off x="6156360" y="437040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18"/>
          <p:cNvSpPr txBox="1"/>
          <p:nvPr/>
        </p:nvSpPr>
        <p:spPr>
          <a:xfrm>
            <a:off x="3419640" y="5300640"/>
            <a:ext cx="439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城关二小 邹桂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5"/>
          <p:cNvSpPr/>
          <p:nvPr/>
        </p:nvSpPr>
        <p:spPr>
          <a:xfrm>
            <a:off x="2195640" y="1125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1835280" y="549360"/>
            <a:ext cx="73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826920" y="942840"/>
            <a:ext cx="831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排排／高楼大厦／像雨后春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件件／家用电器／满目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我们／永远／告别了／破旧的茅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   却忘不了，／延安窑洞／温热的／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航天飞机／探索／宇宙的／奥秘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电子计算机／奏出／美妙的／交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我们／毫不犹豫／丢掉了／老牛破车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   却不能丢／宝塔山／顶天立地的／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"/>
          <p:cNvSpPr/>
          <p:nvPr/>
        </p:nvSpPr>
        <p:spPr>
          <a:xfrm>
            <a:off x="1258920" y="692280"/>
            <a:ext cx="6842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延安，／你的／精神／灿烂辉煌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／一旦／失去了你啊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就／仿佛／没有了／灵魂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能向／美好的／未来／展翅飞翔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啊！／延安，／我把你／追寻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信念，追寻／金色的／理想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温暖，追寻／明媚的／春光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光明，追寻／火红的／太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5"/>
          <p:cNvSpPr/>
          <p:nvPr/>
        </p:nvSpPr>
        <p:spPr>
          <a:xfrm>
            <a:off x="1258920" y="692280"/>
            <a:ext cx="6842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延安，／你的／精神／灿烂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／一旦／失去了你啊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就／仿佛／没有了／灵魂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能向／美好的／未来／展翅飞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啊！／延安，／我把你／追寻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信念，追寻／金色的／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温暖，追寻／明媚的／春光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光明，追寻／火红的／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重点符号画出诗的韵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诗押的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韵，没节诗二四句末尾的一个字都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g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韵脚是：光、阳、看、场、琅、炕、咱、梁、煌、翔、想、光、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宝塔山2"/>
          <p:cNvPicPr/>
          <p:nvPr/>
        </p:nvPicPr>
        <p:blipFill>
          <a:blip r:embed="rId1"/>
          <a:stretch/>
        </p:blipFill>
        <p:spPr>
          <a:xfrm>
            <a:off x="0" y="0"/>
            <a:ext cx="600228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WordArt 5"/>
          <p:cNvSpPr txBox="1"/>
          <p:nvPr/>
        </p:nvSpPr>
        <p:spPr>
          <a:xfrm rot="5400000">
            <a:off x="5562360" y="2285640"/>
            <a:ext cx="4343400" cy="1905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华文行楷"/>
              </a:rPr>
              <a:t>宝塔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Arial"/>
              </a:rPr>
              <a:t>相关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在革命战争年代，中共中央曾在延安领导了中国革命，毛泽东等领袖们在这里为中国革命制定了正确的路线、方针、政策。中国共产党及其领导者，好像灯塔一样，给中国革命指明了方向。因此，宝塔山上的宝塔就成了革命圣地延安的象征。经常出现在文人和画家的笔下。</a:t>
            </a: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4" descr="南泥湾开荒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996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5791320" y="623880"/>
            <a:ext cx="32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南泥湾开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南泥湾历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南泥湾是位于延安城东南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公里处的一条狭窄溪谷，此地野兽出没，杳无人烟。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94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春，由于当时国民党反动派对陕甘宁边区及抗日根据地实行经济封锁，所以，中共中央命令八路军三五九旅进驻南泥湾，实行屯垦，生产自救。没有房，自己动手挖窑洞；没有菜，挖野菜吃；没有工具，就自制锄、铲，短短的三年，由王震旅长率领的三五九旅发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自力更生，艰苦奋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的革命精神，把荆棘遍野、荒无人烟的南泥湾变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处处是庄稼，遍地是牛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的陕北好江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" descr="王家坪革命旧址"/>
          <p:cNvPicPr/>
          <p:nvPr/>
        </p:nvPicPr>
        <p:blipFill>
          <a:blip r:embed="rId1"/>
          <a:stretch/>
        </p:blipFill>
        <p:spPr>
          <a:xfrm>
            <a:off x="-304920" y="-22860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5"/>
          <p:cNvSpPr/>
          <p:nvPr/>
        </p:nvSpPr>
        <p:spPr>
          <a:xfrm>
            <a:off x="0" y="579132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王家坪革命旧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相关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王家坪位于延安城西北方向，隔延河与城相望，旧址处于两座大山脚下，左边叫脑畔山，右边叫花豹山，一条小沟从林中穿过，依山傍水，环境优美。这里曾是中国人民革命军事委员会和国民革命军第八路军（后改为中国人民解放军总司令部）总部所在地。王家坪革命旧址分为南北两院，人们一般称南院为政治部，北院为司令部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延安，一座北国边塞之城，一方热烈而又神秘的土地。延安，一幅壮丽的历史画卷，一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692360" y="0"/>
            <a:ext cx="11449080" cy="70293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6"/>
          <p:cNvSpPr/>
          <p:nvPr/>
        </p:nvSpPr>
        <p:spPr>
          <a:xfrm>
            <a:off x="1116000" y="765000"/>
            <a:ext cx="727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2484360" y="1557360"/>
            <a:ext cx="54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1763640" y="22446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10" descr="图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2052720" y="-647640"/>
            <a:ext cx="14328720" cy="75056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1"/>
          <p:cNvSpPr/>
          <p:nvPr/>
        </p:nvSpPr>
        <p:spPr>
          <a:xfrm>
            <a:off x="2627280" y="170028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2"/>
          <p:cNvSpPr/>
          <p:nvPr/>
        </p:nvSpPr>
        <p:spPr>
          <a:xfrm>
            <a:off x="1116000" y="1833120"/>
            <a:ext cx="6912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</a:rPr>
              <a:t>延安，一座北国边塞之城，一方热烈而又神秘的土地。延安，一幅壮丽的历史画卷，一部光照史册，启迪后人的经典。                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1935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</a:rPr>
              <a:t>年到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1948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</a:rPr>
              <a:t>年的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13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</a:rPr>
              <a:t>年间，那场翻天覆地，激荡山河的革命浪潮曾经从这里席卷全国，延安，也因此被称为革命圣地。王家坪、杨家岭、枣园、南泥湾，这里革命的足迹历历在目，看着这一切，诗人满怀激情地写下了这样的诗句：“延安，我把你追寻”，诗人在追寻什么呢？今天，我们就来学习这篇课文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</a:rPr>
              <a:t>延安，我把你追寻</a:t>
            </a:r>
            <a:r>
              <a:rPr b="1" lang="en-US" sz="2800" spc="-1" strike="noStrike">
                <a:solidFill>
                  <a:srgbClr val="0099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99ff"/>
                </a:solidFill>
                <a:latin typeface="Arial"/>
              </a:rPr>
              <a:t>。</a:t>
            </a:r>
            <a:br>
              <a:rPr sz="36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5" descr="杨家岭革命旧址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966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7"/>
          <p:cNvSpPr/>
          <p:nvPr/>
        </p:nvSpPr>
        <p:spPr>
          <a:xfrm>
            <a:off x="5105520" y="2286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杨家岭革命旧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相关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杨家岭位于延安城西北约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.5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公里处，原是一处只有十几户人家的小山村，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938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月至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947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月，中共中央及主要领导在这里居住。在此期间，领导解放区军民展开了轰轰烈烈的大生产运动；领导全党展开了伟大的整风运动；召开了具有伟大历史意义的第七次全国党代会；著名的延安文艺座谈会也是在这里召开的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75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9961560" cy="68119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6"/>
          <p:cNvSpPr/>
          <p:nvPr/>
        </p:nvSpPr>
        <p:spPr>
          <a:xfrm>
            <a:off x="71928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延河、枣园、南泥湾、杨家岭是延安最具有代表性的地方。延河是黄河的一条支流，它流经延安。当年人们常在延河边上漫步，讨论革命的道理。枣园在延安西北，距市中心约七公里，曾是党中央所在地，毛主席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人民服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著作就是在这里写的。南泥湾在延安南部。当年八路军在这里垦荒种粮，开展大生产运动。著名的歌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泥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词中写道：“南泥湾是个好地方，到处是庄稼，遍地是牛羊。当年的南泥湾，到处呀是荒山，没呀人烟。如今的南泥湾，与往年不一般，再不是旧模样，是陕北的好江南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5" descr="get?name=T1v00yBvEX1RCvBVd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12720" y="-458640"/>
            <a:ext cx="11952360" cy="710064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6"/>
          <p:cNvSpPr/>
          <p:nvPr/>
        </p:nvSpPr>
        <p:spPr>
          <a:xfrm>
            <a:off x="324000" y="4932360"/>
            <a:ext cx="7343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我们永远告别了破旧的茅屋，却忘不了延安窑洞温热的土炕。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613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毫不犹豫地丢掉了老牛破车，却不能丢宝塔山顶天立地的脊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8"/>
          <p:cNvSpPr/>
          <p:nvPr/>
        </p:nvSpPr>
        <p:spPr>
          <a:xfrm>
            <a:off x="2050920" y="2133720"/>
            <a:ext cx="459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9"/>
          <p:cNvSpPr/>
          <p:nvPr/>
        </p:nvSpPr>
        <p:spPr>
          <a:xfrm>
            <a:off x="900000" y="2706480"/>
            <a:ext cx="65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毫不犹豫地丢掉了老牛破车，却不能丢宝塔山顶天立地的脊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0" descr="get?name=T1d2LwBXJ41RCvBVd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68360" y="0"/>
            <a:ext cx="10801440" cy="733896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2"/>
          <p:cNvSpPr/>
          <p:nvPr/>
        </p:nvSpPr>
        <p:spPr>
          <a:xfrm>
            <a:off x="7432560" y="1481040"/>
            <a:ext cx="26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我们毫不犹豫丢掉了老牛破车</a:t>
            </a:r>
            <a:r>
              <a:rPr b="1" lang="en-US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却不能丢宝塔山顶天立地的脊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5" descr="图片"/>
          <p:cNvPicPr/>
          <p:nvPr/>
        </p:nvPicPr>
        <p:blipFill>
          <a:blip r:embed="rId1"/>
          <a:stretch/>
        </p:blipFill>
        <p:spPr>
          <a:xfrm>
            <a:off x="-612720" y="0"/>
            <a:ext cx="1015344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7"/>
          <p:cNvSpPr/>
          <p:nvPr/>
        </p:nvSpPr>
        <p:spPr>
          <a:xfrm>
            <a:off x="2771640" y="249228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8"/>
          <p:cNvSpPr/>
          <p:nvPr/>
        </p:nvSpPr>
        <p:spPr>
          <a:xfrm>
            <a:off x="1332000" y="134784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啊！延安，我把你追寻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追寻信念，追寻金色的理想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追寻温暖，追寻明媚的春光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追寻光明，追寻火红的太阳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-1810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图片"/>
          <p:cNvPicPr/>
          <p:nvPr/>
        </p:nvPicPr>
        <p:blipFill>
          <a:blip r:embed="rId1"/>
          <a:stretch/>
        </p:blipFill>
        <p:spPr>
          <a:xfrm>
            <a:off x="-181080" y="-1971720"/>
            <a:ext cx="17499240" cy="933300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6"/>
          <p:cNvSpPr/>
          <p:nvPr/>
        </p:nvSpPr>
        <p:spPr>
          <a:xfrm>
            <a:off x="-324000" y="549360"/>
            <a:ext cx="40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1116000" y="476280"/>
            <a:ext cx="100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延安精神，就是全心全意为人民服务的精神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延安精神，就是自力更生，艰苦奋斗、不断开拓创新的精神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延安精神，就是解放思想，实事求是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延安精神，就是为崇高理想而献身的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即使将来我们经济发达了，生活富裕了，我们绝不能丢下延安精神，因为无论什么时候，人们总要征服自然，改造自然。为了把社会推向前进，这就必须发扬延安精神。延安精神是中国共产党的传家宝，是中华民族宝贵的精神财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5" descr="图片"/>
          <p:cNvPicPr/>
          <p:nvPr/>
        </p:nvPicPr>
        <p:blipFill>
          <a:blip r:embed="rId1"/>
          <a:stretch/>
        </p:blipFill>
        <p:spPr>
          <a:xfrm>
            <a:off x="-1116000" y="0"/>
            <a:ext cx="10369440" cy="808200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6"/>
          <p:cNvSpPr/>
          <p:nvPr/>
        </p:nvSpPr>
        <p:spPr>
          <a:xfrm>
            <a:off x="971640" y="2421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拓展小练笔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联系自己的生活、学习实际，谈一谈怎样把延安精神发扬光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5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6"/>
          <p:cNvSpPr/>
          <p:nvPr/>
        </p:nvSpPr>
        <p:spPr>
          <a:xfrm>
            <a:off x="2195640" y="1125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1835280" y="549360"/>
            <a:ext cx="730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延安，／我把你／追寻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／翩翩／归来的／燕子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在／追寻／昔日的／春光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像／茁壮成长的／小树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在／追寻／雨露和太阳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延安／丁冬的／流水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枣园／梨花的／清香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南泥湾／开荒的／镢头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杨家岭／讲话的／会场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5"/>
          <p:cNvSpPr/>
          <p:nvPr/>
        </p:nvSpPr>
        <p:spPr>
          <a:xfrm>
            <a:off x="2195640" y="1125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1835280" y="549360"/>
            <a:ext cx="73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826920" y="942840"/>
            <a:ext cx="831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排排／高楼大厦／像雨后春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件件／家用电器／满目琳琅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我们／永远／告别了／破旧的茅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   却忘不了，／延安窑洞／温热的／土炕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航天飞机／探索／宇宙的／奥秘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电子计算机／奏出／美妙的／交响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我们／毫不犹豫／丢掉了／老牛破车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   却不能丢／宝塔山／顶天立地的／脊梁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5"/>
          <p:cNvSpPr/>
          <p:nvPr/>
        </p:nvSpPr>
        <p:spPr>
          <a:xfrm>
            <a:off x="1258920" y="692280"/>
            <a:ext cx="6842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延安，／你的／精神／灿烂辉煌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／一旦／失去了你啊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就／仿佛／没有了／灵魂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能向／美好的／未来／展翅飞翔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啊！／延安，／我把你／追寻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信念，追寻／金色的／理想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温暖，追寻／明媚的／春光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追寻／光明，追寻／火红的／太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重点符号画出诗的韵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5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6"/>
          <p:cNvSpPr/>
          <p:nvPr/>
        </p:nvSpPr>
        <p:spPr>
          <a:xfrm>
            <a:off x="2195640" y="1125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835280" y="549360"/>
            <a:ext cx="730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延安，／我把你／追寻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／翩翩／归来的／燕子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在／追寻／昔日的／春光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像／茁壮成长的／小树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在／追寻／雨露和太阳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延安／丁冬的／流水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枣园／梨花的／清香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南泥湾／开荒的／镢头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杨家岭／讲话的／会场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6"/>
          <p:cNvSpPr/>
          <p:nvPr/>
        </p:nvSpPr>
        <p:spPr>
          <a:xfrm>
            <a:off x="2195640" y="1125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1835280" y="549360"/>
            <a:ext cx="730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延安，／我把你／追寻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／翩翩／归来的／燕子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在／追寻／昔日的／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像／茁壮成长的／小树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在／追寻／雨露和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延安／丁冬的／流水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枣园／梨花的／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南泥湾／开荒的／镢头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追寻你，／杨家岭／讲话的／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rurl4_b=f52733238bc189dd92eac1a168c98ddfa39aa82f01bd8055fce4220aa027051c7586d6c291d7c2ca1de2f22ac45331656ac63d4b5e2b740db4a472a5ff3e0c400e9862f6e0a36afcd04e21e546db8b5f29dd5c07&amp;a=29&amp;b=29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5"/>
          <p:cNvSpPr/>
          <p:nvPr/>
        </p:nvSpPr>
        <p:spPr>
          <a:xfrm>
            <a:off x="2195640" y="1125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1835280" y="549360"/>
            <a:ext cx="73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826920" y="942840"/>
            <a:ext cx="8317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排排／高楼大厦／像雨后春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件件／家用电器／满目琳琅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我们／永远／告别了／破旧的茅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   却忘不了，／延安窑洞／温热的／土炕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航天飞机／探索／宇宙的／奥秘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电子计算机／奏出／美妙的／交响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我们／毫不犹豫／丢掉了／老牛破车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   却不能丢／宝塔山／顶天立地的／脊梁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8T13:00:17Z</dcterms:created>
  <dc:creator>微软用户</dc:creator>
  <dc:description/>
  <dc:language>en-US</dc:language>
  <cp:lastModifiedBy>Sky123.Org</cp:lastModifiedBy>
  <dcterms:modified xsi:type="dcterms:W3CDTF">2014-12-18T01:21:05Z</dcterms:modified>
  <cp:revision>67</cp:revision>
  <dc:subject/>
  <dc:title>幻灯片 1</dc:title>
</cp:coreProperties>
</file>